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E10-6E12-4AD1-B5C6-95E2E02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29F-4919-44F9-8428-670CD757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A134-E7D6-41CD-8D23-BC1FFCDC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BB6-992E-40C7-AC90-0BE903C0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74FD-FC5E-48C3-8649-0FBD46D3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2BA7-134A-45F7-8003-F5933A14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0044-AF3C-4621-B41F-55478F35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8B00-BE33-4DE0-A372-A76AF9C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ABEB-A4D6-4E59-98D6-C3C22761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33F6-42C9-4D5B-8C38-9B81EEB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378E-8D06-4788-AADD-F8076CE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14D-65FB-47B6-B7E1-F2EC9BED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150F-92C4-4067-8EB5-B3F9A9A6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0C3-D933-43AB-AA37-DFC82DC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2111-A564-445F-AC23-F9C6DDA2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D829-C72D-4D87-A3D0-00935FF3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564D-E2EF-4DAB-A61C-4154EC1A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A1D-3D92-4AC1-A400-91F06448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928-9B1D-4CA0-AA60-4AF9CAF7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697-AD47-4BFE-80A6-AB84742A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9AC-2548-4921-B176-4D337737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E63-A6CF-4863-A8A3-6993BEB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F2A-0E55-4C72-8E2B-8503125B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821-8752-48B1-843C-C9B21DDD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FE2F-729C-4534-ABE0-4340455DF4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00EE-36B4-4CB9-9C61-4E51B6D1C4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6:1 – 8: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3;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8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onfirmation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would save Israel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36-4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spoke to Go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will put a fleece of wool on the flo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irst sig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f dew is on the fleece but not on the floor, I will know that you (God) will save Israel by my han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xt day – it was as he had said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ond sig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f dew is on the floor but not on the fleece, I will know that you (God) will save Israel by my han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xt day – it was as he had said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re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2,000 – 22,000 = 10,000 l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still had too many m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re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0,000 – 9,700 = 300 l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eryone else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31,70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 sent h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776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 army followed his instructions 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acked after the night watch chang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lew the trump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oke the pitchers revealing the lam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ed, “The sword of the Lord and of Gideon, v19-2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onfusion, the Midianites slaughtered each other.  The rest ran, but were pursued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22-2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1295280"/>
            <a:ext cx="5257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576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7:24 - 8: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ssage sent to Ephraimites 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op the Midianites passage over the Jordan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tured 2 leaders of the Midianites and cut off their heads, 24-2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, the Ephraimites complain, 8: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: Isn’t the gleaning of Ephraim better than the harvest of Abiezer?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ain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8:2-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129528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ttle (7:19-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ictory (7:24 - 8: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was evil in the sight of the Lord, v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 years of oppression, v1-3 &amp; 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d in dens and caves,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poor people, v4 &amp;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 the cycle - Judges 2:14-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– Who Were The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, Son of Abraham and Ketur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fled to the land of Mid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married Zipporah, a Midian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ed Moab in trying to curse Isra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l influence on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slaughtered the Midianites earl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 located in the western part of the Arabian desert; south of 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Land of 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480" y="5715000"/>
            <a:ext cx="91440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Oph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1600200"/>
            <a:ext cx="762120" cy="12952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Valley of 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00040" y="1905120"/>
            <a:ext cx="1600200" cy="91440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7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nt a proph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inds them of former delivera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inds them they were warned about serving other go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, “ye have not obeyed my voic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God called Gideon to save Israel, v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– Who Was 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fth recorded judge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er called “Jerubbaal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ngest son of Joash of the Abiezrites (tribe of Manasse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d in Ophrah, probably in the territory of Issachar, west of the Jordan R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ghty man of valor (brave); humble; obedient; cauti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11-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the Lord appeared to him, v11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ould not understand how a poor man like him could save Israel – humble, v15-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ed for a sign – being cautious, v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given a sign, v18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altar as a memorial, v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rd sai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troy your father’s altar of Baal and to cut down the pole of Ashtaro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 an altar to God and offer your  father’s bullock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obeys the Lor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ty found Gideon responsible for dam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8-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ash challenged Baal to punish Gide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31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 “Jerubbaal” – “Baal fighter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43:27Z</dcterms:created>
  <dc:creator>Frank D Vines</dc:creator>
  <dc:description/>
  <dc:language>en-US</dc:language>
  <cp:lastModifiedBy>Frank D Vines</cp:lastModifiedBy>
  <dcterms:modified xsi:type="dcterms:W3CDTF">2005-02-09T23:57:39Z</dcterms:modified>
  <cp:revision>29</cp:revision>
  <dc:subject/>
  <dc:title>Slide 1</dc:title>
</cp:coreProperties>
</file>